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FE69-EB0C-4F6C-B94A-DC320BC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48EE-802F-42EC-9BDB-D492927B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F4A3-2CB4-4C22-951B-1750C8EA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111F-6D81-47E6-AC13-1E21BBA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CC0A-82E1-4D84-A65D-50FD284A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555-0368-41A3-9FCA-0B2FDA8B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14CE-F2E6-4A49-95C5-84F9A85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7C72-9555-43E4-A992-8C5B3E6E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EA87-1648-4621-8337-D0B87DE4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BBB7-192B-49AA-803A-D27D74C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D53-3D9F-4201-94A7-869F8EB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B15B-1DD7-4940-ACBA-B6A114F8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345F-C4C3-4898-9471-AE5AE860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BA23-8E62-45D0-8DA0-38574BA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53B6-F458-4745-A596-CF31A604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276-134E-4DD6-9214-10232880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CFC5-F1B3-4F79-884B-4FA597FC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BBAE-0D02-4BE9-AEFF-80F6B4AE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7DCF-649A-4352-99E9-004735B8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C2A3-D672-4429-8402-B367592E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3608-234D-45F7-B915-DF9A5BD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C5F1-BC77-41CE-8D16-19E9ED3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8BC7-3B3B-4C1D-8DDB-5ED6EFF7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BD46-DCEB-4ACC-8A6C-B48E97F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0E7-4427-4175-A4A3-7A5850D9E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A60F-5C5E-47D2-8870-8AC4212B2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Process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s a collection of independent and unorganized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is the processed and organized data presented in a meaningfu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CESSING is the course of doing things in a sequence of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Process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is an electronic machine that follows a set of instructions in order that it may be able to accept and gather data and transform these in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c9"/>
          <p:cNvPicPr/>
          <p:nvPr/>
        </p:nvPicPr>
        <p:blipFill>
          <a:blip r:embed="rId1"/>
          <a:stretch/>
        </p:blipFill>
        <p:spPr>
          <a:xfrm>
            <a:off x="5715000" y="3276720"/>
            <a:ext cx="3200400" cy="184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paper_lg"/>
          <p:cNvPicPr/>
          <p:nvPr/>
        </p:nvPicPr>
        <p:blipFill>
          <a:blip r:embed="rId2"/>
          <a:stretch/>
        </p:blipFill>
        <p:spPr>
          <a:xfrm>
            <a:off x="304920" y="2286000"/>
            <a:ext cx="2535120" cy="33242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2743200" y="3809880"/>
            <a:ext cx="2743200" cy="6858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895480" y="3048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computer2"/>
          <p:cNvPicPr/>
          <p:nvPr/>
        </p:nvPicPr>
        <p:blipFill>
          <a:blip r:embed="rId3"/>
          <a:stretch/>
        </p:blipFill>
        <p:spPr>
          <a:xfrm>
            <a:off x="3124080" y="914400"/>
            <a:ext cx="2210040" cy="1805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11430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0199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 of an Information Process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cepts and gather data. (INP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cesses data to become information. (PROCE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ores data and information. (ST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esents information. (OUTP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Major Components of an Information Process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is the tangible part of a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the non-tangible part that tells the computer how to do its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WARE refer to people who use and operate the computer system, write computer programs, and analyze and design the information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Units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is a unit of information equivalent to the result of a choice between only 2 possible alternatives in the binary numb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 is a sequence of 8 bits (enough to represent one character of alphanumeric data) processed as a single unit for inform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Units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yte can be used to represent a single character, which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character or symbol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67080" cy="310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4572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Units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,000 by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 kilobyte (K or KB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,000 K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 megabyte (MB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,000 M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 gigabyte (GB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,000 G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 Terabyte (TB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58:36Z</dcterms:created>
  <dc:creator>EDUMANGAS</dc:creator>
  <dc:description/>
  <dc:language>en-US</dc:language>
  <cp:lastModifiedBy>kaab zarrar</cp:lastModifiedBy>
  <dcterms:modified xsi:type="dcterms:W3CDTF">2020-03-26T09:08:01Z</dcterms:modified>
  <cp:revision>68</cp:revision>
  <dc:subject/>
  <dc:title>FUNDAMENTALS OF COMPUTER</dc:title>
</cp:coreProperties>
</file>